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D67-0527-4EB4-AB15-A8F33174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FD7-2337-445B-BE04-3B9A41B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2F6-3AE3-46B9-AECC-0F9BBDBB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116-2DA6-4E65-81A8-0DADCFE3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06A-D9AE-4EB6-B1AC-78B42DD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8B1-1C1F-449A-A749-B969DAF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488-C398-4975-A2A5-6C8A67C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9C1-1FA3-4275-861C-D75D3DE5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0EC-D7DF-486A-ACDE-144A665A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3A2-C209-4B85-8126-E4B70AFE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F17-8551-48BD-9C90-5E923FE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7FE-759D-4683-8B5A-1739057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305D-81EF-4DEA-9318-6396AA63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380880"/>
            <a:ext cx="182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35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.security.auth.Main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85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447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4" idx="2"/>
            <a:endCxn id="45" idx="0"/>
          </p:cNvCxnSpPr>
          <p:nvPr/>
        </p:nvCxnSpPr>
        <p:spPr>
          <a:xfrm>
            <a:off x="4038480" y="1905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562720" y="76212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_jaas.con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80880"/>
            <a:ext cx="19810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UserLogin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47" idx="1"/>
          </p:cNvCxnSpPr>
          <p:nvPr/>
        </p:nvCxnSpPr>
        <p:spPr>
          <a:xfrm>
            <a:off x="4724280" y="914400"/>
            <a:ext cx="838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0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3920" y="1676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808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Thread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18288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362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657600"/>
            <a:ext cx="32763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86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 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rExplorer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029200"/>
            <a:ext cx="1676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5" idx="1"/>
            <a:endCxn id="59" idx="3"/>
          </p:cNvCxnSpPr>
          <p:nvPr/>
        </p:nvCxnSpPr>
        <p:spPr>
          <a:xfrm flipH="1">
            <a:off x="2666880" y="243828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57" idx="0"/>
          </p:cNvCxnSpPr>
          <p:nvPr/>
        </p:nvCxnSpPr>
        <p:spPr>
          <a:xfrm>
            <a:off x="1752480" y="2666880"/>
            <a:ext cx="3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3"/>
            <a:endCxn id="60" idx="1"/>
          </p:cNvCxnSpPr>
          <p:nvPr/>
        </p:nvCxnSpPr>
        <p:spPr>
          <a:xfrm>
            <a:off x="2514600" y="4267080"/>
            <a:ext cx="1752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cio un 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657600"/>
            <a:ext cx="20574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8620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502920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0" idx="3"/>
            <a:endCxn id="66" idx="1"/>
          </p:cNvCxnSpPr>
          <p:nvPr/>
        </p:nvCxnSpPr>
        <p:spPr>
          <a:xfrm>
            <a:off x="5715000" y="426708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3T14:14:17Z</dcterms:created>
  <dc:creator>Mario Zambrini</dc:creator>
  <dc:description/>
  <dc:language>en-US</dc:language>
  <cp:lastModifiedBy>Mario Zambrini</cp:lastModifiedBy>
  <dcterms:modified xsi:type="dcterms:W3CDTF">1999-12-23T14:42:56Z</dcterms:modified>
  <cp:revision>2</cp:revision>
  <dc:subject/>
  <dc:title>Nessun titolo diapositiva</dc:title>
</cp:coreProperties>
</file>