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4BB-A1BC-4F06-BBFF-39CBB0D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23F-9038-41B9-8DC6-DEF10F5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22E-78E0-4F83-9295-BAD936A6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772-0CAC-4456-AA9D-E1ED14B3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8EB-DFFE-4974-9642-CED24A50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A9A-5636-4F3A-BC22-F9F522C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266-5CA1-412D-ACA1-4181438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E8F-92BE-467D-A810-1131F1C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98B-23F5-444A-90C1-61A00A9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ADD-C309-4B8D-9388-5DD144E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DA3-F5AE-4C4F-92A4-753E574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688-B221-4727-8C32-07B689A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D629-4A45-486A-9E7D-D5DDE16E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380880"/>
            <a:ext cx="182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35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.security.auth.Main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85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447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4" idx="2"/>
            <a:endCxn id="45" idx="0"/>
          </p:cNvCxnSpPr>
          <p:nvPr/>
        </p:nvCxnSpPr>
        <p:spPr>
          <a:xfrm>
            <a:off x="4038480" y="1905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562720" y="76212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_jaas.con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80880"/>
            <a:ext cx="19810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UserLogin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47" idx="1"/>
          </p:cNvCxnSpPr>
          <p:nvPr/>
        </p:nvCxnSpPr>
        <p:spPr>
          <a:xfrm>
            <a:off x="4724280" y="914400"/>
            <a:ext cx="838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0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3920" y="1676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808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Thread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18288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362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657600"/>
            <a:ext cx="32763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86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 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rExplorer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029200"/>
            <a:ext cx="1676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5" idx="1"/>
            <a:endCxn id="59" idx="3"/>
          </p:cNvCxnSpPr>
          <p:nvPr/>
        </p:nvCxnSpPr>
        <p:spPr>
          <a:xfrm flipH="1">
            <a:off x="2666880" y="243828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57" idx="0"/>
          </p:cNvCxnSpPr>
          <p:nvPr/>
        </p:nvCxnSpPr>
        <p:spPr>
          <a:xfrm>
            <a:off x="1752480" y="2666880"/>
            <a:ext cx="3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3"/>
            <a:endCxn id="60" idx="1"/>
          </p:cNvCxnSpPr>
          <p:nvPr/>
        </p:nvCxnSpPr>
        <p:spPr>
          <a:xfrm>
            <a:off x="2514600" y="4267080"/>
            <a:ext cx="1752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cio un 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657600"/>
            <a:ext cx="20574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8620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502920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0" idx="3"/>
            <a:endCxn id="66" idx="1"/>
          </p:cNvCxnSpPr>
          <p:nvPr/>
        </p:nvCxnSpPr>
        <p:spPr>
          <a:xfrm>
            <a:off x="5715000" y="426708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3T14:14:17Z</dcterms:created>
  <dc:creator>Mario Zambrini</dc:creator>
  <dc:description/>
  <dc:language>en-US</dc:language>
  <cp:lastModifiedBy>Mario Zambrini</cp:lastModifiedBy>
  <dcterms:modified xsi:type="dcterms:W3CDTF">1999-12-23T14:42:56Z</dcterms:modified>
  <cp:revision>2</cp:revision>
  <dc:subject/>
  <dc:title>Nessun titolo diapositiva</dc:title>
</cp:coreProperties>
</file>